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6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99A1-76DE-4040-88D0-98FC4D8C6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51D9-0F02-4258-A5A7-FE9ABA3E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0E7C-B211-42F7-BECA-A62FBFC19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7F27-C7AF-413C-A1AF-2786F94FB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F9AF-E90F-4095-A78A-B0F6D3D0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D5B7-0BD5-4B2A-8749-B58687C7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5F9D-E562-40D0-985B-E9833BDE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8BAB-5505-47F5-90D9-01CDD185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A196-F927-4A57-B1D0-7647318D8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7EE8-6C49-4A2F-8BA5-5DEA6F5A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2D36-0569-4C02-82B3-E76C6A7E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DA95-C530-4C26-9B87-B43CC2E5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3E6E-08A3-4487-8058-5786C15294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684360" y="2708280"/>
            <a:ext cx="720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ff"/>
                </a:solidFill>
                <a:latin typeface="Arial"/>
              </a:rPr>
              <a:t>Lesson19  Famil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315720" y="569880"/>
            <a:ext cx="264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et' s cha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692360" y="1872000"/>
            <a:ext cx="662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爸爸，爸爸 是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a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ather father, fa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妈妈，妈妈是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other, mother, m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哥哥，弟弟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r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rother, br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姐姐，妹妹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is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ister, si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这是我们的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amily,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我们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eel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很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app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7486880_031916194340_2"/>
          <p:cNvPicPr/>
          <p:nvPr/>
        </p:nvPicPr>
        <p:blipFill>
          <a:blip r:embed="rId1"/>
          <a:stretch/>
        </p:blipFill>
        <p:spPr>
          <a:xfrm>
            <a:off x="-322200" y="-241200"/>
            <a:ext cx="9752040" cy="7380360"/>
          </a:xfrm>
          <a:prstGeom prst="rect">
            <a:avLst/>
          </a:prstGeom>
          <a:ln w="0">
            <a:noFill/>
          </a:ln>
        </p:spPr>
      </p:pic>
      <p:sp>
        <p:nvSpPr>
          <p:cNvPr id="104" name="Oval 3"/>
          <p:cNvSpPr/>
          <p:nvPr/>
        </p:nvSpPr>
        <p:spPr>
          <a:xfrm>
            <a:off x="0" y="189000"/>
            <a:ext cx="104292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5"/>
          <p:cNvSpPr/>
          <p:nvPr/>
        </p:nvSpPr>
        <p:spPr>
          <a:xfrm>
            <a:off x="5651640" y="-453960"/>
            <a:ext cx="1224000" cy="90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7"/>
          <p:cNvSpPr/>
          <p:nvPr/>
        </p:nvSpPr>
        <p:spPr>
          <a:xfrm>
            <a:off x="-322200" y="3213000"/>
            <a:ext cx="107784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755640" y="3573360"/>
            <a:ext cx="576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9"/>
          <p:cNvSpPr/>
          <p:nvPr/>
        </p:nvSpPr>
        <p:spPr>
          <a:xfrm>
            <a:off x="4284720" y="1341360"/>
            <a:ext cx="122544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3"/>
          <p:cNvSpPr txBox="1"/>
          <p:nvPr/>
        </p:nvSpPr>
        <p:spPr>
          <a:xfrm>
            <a:off x="2627280" y="2565360"/>
            <a:ext cx="3527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family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116360" y="4027320"/>
            <a:ext cx="131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爸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844000" y="981000"/>
            <a:ext cx="101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6"/>
          <p:cNvSpPr/>
          <p:nvPr/>
        </p:nvSpPr>
        <p:spPr>
          <a:xfrm flipH="1">
            <a:off x="2050560" y="3500280"/>
            <a:ext cx="576360" cy="4334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7"/>
          <p:cNvSpPr/>
          <p:nvPr/>
        </p:nvSpPr>
        <p:spPr>
          <a:xfrm flipV="1">
            <a:off x="3419640" y="2060280"/>
            <a:ext cx="0" cy="7189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4140360" y="3429000"/>
            <a:ext cx="0" cy="5763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3349080" y="4076640"/>
            <a:ext cx="167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妈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0"/>
          <p:cNvSpPr/>
          <p:nvPr/>
        </p:nvSpPr>
        <p:spPr>
          <a:xfrm flipV="1">
            <a:off x="4716360" y="1844280"/>
            <a:ext cx="216000" cy="5763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4851360" y="907920"/>
            <a:ext cx="36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5292720" y="3500280"/>
            <a:ext cx="216000" cy="720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5077800" y="4076640"/>
            <a:ext cx="11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4"/>
          <p:cNvSpPr/>
          <p:nvPr/>
        </p:nvSpPr>
        <p:spPr>
          <a:xfrm flipV="1">
            <a:off x="6156360" y="2276640"/>
            <a:ext cx="360360" cy="504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6372720" y="1628640"/>
            <a:ext cx="112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250920" y="26028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“family”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e a letter to your friends to introduce your family memb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2"/>
          <p:cNvGrpSpPr/>
          <p:nvPr/>
        </p:nvGrpSpPr>
        <p:grpSpPr>
          <a:xfrm>
            <a:off x="838080" y="4800600"/>
            <a:ext cx="1219320" cy="926640"/>
            <a:chOff x="838080" y="4800600"/>
            <a:chExt cx="1219320" cy="926640"/>
          </a:xfrm>
        </p:grpSpPr>
        <p:grpSp>
          <p:nvGrpSpPr>
            <p:cNvPr id="43" name="Group 3"/>
            <p:cNvGrpSpPr/>
            <p:nvPr/>
          </p:nvGrpSpPr>
          <p:grpSpPr>
            <a:xfrm>
              <a:off x="840240" y="4800600"/>
              <a:ext cx="1203120" cy="926640"/>
              <a:chOff x="840240" y="4800600"/>
              <a:chExt cx="1203120" cy="926640"/>
            </a:xfrm>
          </p:grpSpPr>
          <p:sp>
            <p:nvSpPr>
              <p:cNvPr id="44" name="Rectangle 4"/>
              <p:cNvSpPr/>
              <p:nvPr/>
            </p:nvSpPr>
            <p:spPr>
              <a:xfrm>
                <a:off x="840240" y="4800600"/>
                <a:ext cx="1203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_________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Rectangle 5"/>
              <p:cNvSpPr/>
              <p:nvPr/>
            </p:nvSpPr>
            <p:spPr>
              <a:xfrm>
                <a:off x="840240" y="5017680"/>
                <a:ext cx="1203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_________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Rectangle 6"/>
              <p:cNvSpPr/>
              <p:nvPr/>
            </p:nvSpPr>
            <p:spPr>
              <a:xfrm>
                <a:off x="840240" y="5235480"/>
                <a:ext cx="1203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_________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Rectangle 7"/>
              <p:cNvSpPr/>
              <p:nvPr/>
            </p:nvSpPr>
            <p:spPr>
              <a:xfrm>
                <a:off x="840240" y="5452560"/>
                <a:ext cx="1203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_________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Text Box 8"/>
            <p:cNvSpPr/>
            <p:nvPr/>
          </p:nvSpPr>
          <p:spPr>
            <a:xfrm>
              <a:off x="838080" y="51055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father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9"/>
          <p:cNvGrpSpPr/>
          <p:nvPr/>
        </p:nvGrpSpPr>
        <p:grpSpPr>
          <a:xfrm>
            <a:off x="7086600" y="4767480"/>
            <a:ext cx="1676160" cy="925200"/>
            <a:chOff x="7086600" y="4767480"/>
            <a:chExt cx="1676160" cy="925200"/>
          </a:xfrm>
        </p:grpSpPr>
        <p:grpSp>
          <p:nvGrpSpPr>
            <p:cNvPr id="50" name="Group 10"/>
            <p:cNvGrpSpPr/>
            <p:nvPr/>
          </p:nvGrpSpPr>
          <p:grpSpPr>
            <a:xfrm>
              <a:off x="7086600" y="4767480"/>
              <a:ext cx="1676160" cy="925200"/>
              <a:chOff x="7086600" y="4767480"/>
              <a:chExt cx="1676160" cy="925200"/>
            </a:xfrm>
          </p:grpSpPr>
          <p:sp>
            <p:nvSpPr>
              <p:cNvPr id="51" name="Rectangle 11"/>
              <p:cNvSpPr/>
              <p:nvPr/>
            </p:nvSpPr>
            <p:spPr>
              <a:xfrm>
                <a:off x="7088040" y="4767480"/>
                <a:ext cx="1203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_________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12"/>
              <p:cNvSpPr/>
              <p:nvPr/>
            </p:nvSpPr>
            <p:spPr>
              <a:xfrm>
                <a:off x="7088040" y="4984200"/>
                <a:ext cx="1203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_________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7086600" y="5200200"/>
                <a:ext cx="1676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_________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7088040" y="5418000"/>
                <a:ext cx="1203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_________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Text Box 15"/>
            <p:cNvSpPr/>
            <p:nvPr/>
          </p:nvSpPr>
          <p:spPr>
            <a:xfrm>
              <a:off x="7086600" y="504324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sist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16"/>
          <p:cNvGrpSpPr/>
          <p:nvPr/>
        </p:nvGrpSpPr>
        <p:grpSpPr>
          <a:xfrm>
            <a:off x="4876920" y="4734000"/>
            <a:ext cx="2361240" cy="971640"/>
            <a:chOff x="4876920" y="4734000"/>
            <a:chExt cx="2361240" cy="971640"/>
          </a:xfrm>
        </p:grpSpPr>
        <p:grpSp>
          <p:nvGrpSpPr>
            <p:cNvPr id="57" name="Group 17"/>
            <p:cNvGrpSpPr/>
            <p:nvPr/>
          </p:nvGrpSpPr>
          <p:grpSpPr>
            <a:xfrm>
              <a:off x="4952880" y="4734000"/>
              <a:ext cx="2285280" cy="971640"/>
              <a:chOff x="4952880" y="4734000"/>
              <a:chExt cx="2285280" cy="971640"/>
            </a:xfrm>
          </p:grpSpPr>
          <p:sp>
            <p:nvSpPr>
              <p:cNvPr id="58" name="Rectangle 18"/>
              <p:cNvSpPr/>
              <p:nvPr/>
            </p:nvSpPr>
            <p:spPr>
              <a:xfrm>
                <a:off x="4953960" y="4734000"/>
                <a:ext cx="1203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_________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9"/>
              <p:cNvSpPr/>
              <p:nvPr/>
            </p:nvSpPr>
            <p:spPr>
              <a:xfrm>
                <a:off x="4953960" y="4966920"/>
                <a:ext cx="1203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_________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20"/>
              <p:cNvSpPr/>
              <p:nvPr/>
            </p:nvSpPr>
            <p:spPr>
              <a:xfrm>
                <a:off x="4953960" y="5197680"/>
                <a:ext cx="1203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_________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21"/>
              <p:cNvSpPr/>
              <p:nvPr/>
            </p:nvSpPr>
            <p:spPr>
              <a:xfrm>
                <a:off x="4952880" y="5430960"/>
                <a:ext cx="2285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_________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Text Box 22"/>
            <p:cNvSpPr/>
            <p:nvPr/>
          </p:nvSpPr>
          <p:spPr>
            <a:xfrm>
              <a:off x="4876920" y="5043600"/>
              <a:ext cx="152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brother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23"/>
          <p:cNvGrpSpPr/>
          <p:nvPr/>
        </p:nvGrpSpPr>
        <p:grpSpPr>
          <a:xfrm>
            <a:off x="2895480" y="4794120"/>
            <a:ext cx="1752120" cy="925920"/>
            <a:chOff x="2895480" y="4794120"/>
            <a:chExt cx="1752120" cy="925920"/>
          </a:xfrm>
        </p:grpSpPr>
        <p:grpSp>
          <p:nvGrpSpPr>
            <p:cNvPr id="64" name="Group 24"/>
            <p:cNvGrpSpPr/>
            <p:nvPr/>
          </p:nvGrpSpPr>
          <p:grpSpPr>
            <a:xfrm>
              <a:off x="2971800" y="4794120"/>
              <a:ext cx="1675800" cy="925920"/>
              <a:chOff x="2971800" y="4794120"/>
              <a:chExt cx="1675800" cy="925920"/>
            </a:xfrm>
          </p:grpSpPr>
          <p:sp>
            <p:nvSpPr>
              <p:cNvPr id="65" name="Rectangle 25"/>
              <p:cNvSpPr/>
              <p:nvPr/>
            </p:nvSpPr>
            <p:spPr>
              <a:xfrm>
                <a:off x="2973240" y="4794120"/>
                <a:ext cx="1203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_________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26"/>
              <p:cNvSpPr/>
              <p:nvPr/>
            </p:nvSpPr>
            <p:spPr>
              <a:xfrm>
                <a:off x="2973240" y="5010840"/>
                <a:ext cx="1203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_________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27"/>
              <p:cNvSpPr/>
              <p:nvPr/>
            </p:nvSpPr>
            <p:spPr>
              <a:xfrm>
                <a:off x="2971800" y="5226480"/>
                <a:ext cx="1675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_________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28"/>
              <p:cNvSpPr/>
              <p:nvPr/>
            </p:nvSpPr>
            <p:spPr>
              <a:xfrm>
                <a:off x="2973240" y="5445360"/>
                <a:ext cx="1203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_________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Text Box 29"/>
            <p:cNvSpPr/>
            <p:nvPr/>
          </p:nvSpPr>
          <p:spPr>
            <a:xfrm>
              <a:off x="2895480" y="510516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mother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Picture 30" descr="20076231939"/>
          <p:cNvPicPr/>
          <p:nvPr/>
        </p:nvPicPr>
        <p:blipFill>
          <a:blip r:embed="rId1"/>
          <a:stretch/>
        </p:blipFill>
        <p:spPr>
          <a:xfrm>
            <a:off x="536400" y="380880"/>
            <a:ext cx="1825920" cy="41911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1"/>
          <p:cNvSpPr/>
          <p:nvPr/>
        </p:nvSpPr>
        <p:spPr>
          <a:xfrm>
            <a:off x="1066680" y="60199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爸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2"/>
          <p:cNvSpPr/>
          <p:nvPr/>
        </p:nvSpPr>
        <p:spPr>
          <a:xfrm>
            <a:off x="3124080" y="6019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妈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4724280" y="6019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弟弟、哥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4"/>
          <p:cNvSpPr/>
          <p:nvPr/>
        </p:nvSpPr>
        <p:spPr>
          <a:xfrm>
            <a:off x="7086600" y="6019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姐姐、妹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5" descr="2007623193956"/>
          <p:cNvPicPr/>
          <p:nvPr/>
        </p:nvPicPr>
        <p:blipFill>
          <a:blip r:embed="rId2"/>
          <a:stretch/>
        </p:blipFill>
        <p:spPr>
          <a:xfrm>
            <a:off x="2666880" y="533520"/>
            <a:ext cx="1677960" cy="3962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6" descr="2007623193"/>
          <p:cNvPicPr/>
          <p:nvPr/>
        </p:nvPicPr>
        <p:blipFill>
          <a:blip r:embed="rId3"/>
          <a:stretch/>
        </p:blipFill>
        <p:spPr>
          <a:xfrm>
            <a:off x="7010280" y="990720"/>
            <a:ext cx="1447920" cy="3581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7" descr="20076231"/>
          <p:cNvPicPr/>
          <p:nvPr/>
        </p:nvPicPr>
        <p:blipFill>
          <a:blip r:embed="rId4"/>
          <a:stretch/>
        </p:blipFill>
        <p:spPr>
          <a:xfrm>
            <a:off x="4952880" y="1600200"/>
            <a:ext cx="13716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other and si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150CAW2UBEC"/>
          <p:cNvPicPr/>
          <p:nvPr/>
        </p:nvPicPr>
        <p:blipFill>
          <a:blip r:embed="rId1"/>
          <a:stretch/>
        </p:blipFill>
        <p:spPr>
          <a:xfrm>
            <a:off x="5148360" y="1844640"/>
            <a:ext cx="3095640" cy="3816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8_1088_ae072ae2594f499"/>
          <p:cNvPicPr/>
          <p:nvPr/>
        </p:nvPicPr>
        <p:blipFill>
          <a:blip r:embed="rId2"/>
          <a:stretch/>
        </p:blipFill>
        <p:spPr>
          <a:xfrm>
            <a:off x="1042920" y="1844640"/>
            <a:ext cx="3149640" cy="38163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923760" y="5764320"/>
            <a:ext cx="32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哥哥和妹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5464080" y="5824440"/>
            <a:ext cx="263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弟弟和姐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1116000" y="1628640"/>
            <a:ext cx="71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cle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叔叔、伯伯、姑父、舅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042920" y="278136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nt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阿姨、婶婶、姑姑、伯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1116000" y="400536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sin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表哥、表弟、表姐、表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1042920" y="836640"/>
            <a:ext cx="324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Extent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1601640"/>
            <a:ext cx="7715160" cy="12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is is …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,she/he is my fri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这是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50560" y="2852280"/>
            <a:ext cx="62658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Jenny,she is my fri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24000" y="3718080"/>
            <a:ext cx="626400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Liming ,he is my fri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211640" y="1197000"/>
            <a:ext cx="424512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fath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his is my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fa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20076231939"/>
          <p:cNvPicPr/>
          <p:nvPr/>
        </p:nvPicPr>
        <p:blipFill>
          <a:blip r:embed="rId1"/>
          <a:stretch/>
        </p:blipFill>
        <p:spPr>
          <a:xfrm>
            <a:off x="1531800" y="1600200"/>
            <a:ext cx="1889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212720" y="1600200"/>
            <a:ext cx="447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moth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his is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my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m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2007623193956"/>
          <p:cNvPicPr/>
          <p:nvPr/>
        </p:nvPicPr>
        <p:blipFill>
          <a:blip r:embed="rId1"/>
          <a:stretch/>
        </p:blipFill>
        <p:spPr>
          <a:xfrm>
            <a:off x="1187280" y="1197000"/>
            <a:ext cx="1678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4502160" y="1125360"/>
            <a:ext cx="200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sist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635280" y="1989000"/>
            <a:ext cx="448164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his is my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sister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2007623193"/>
          <p:cNvPicPr/>
          <p:nvPr/>
        </p:nvPicPr>
        <p:blipFill>
          <a:blip r:embed="rId1"/>
          <a:stretch/>
        </p:blipFill>
        <p:spPr>
          <a:xfrm>
            <a:off x="1187280" y="1125360"/>
            <a:ext cx="17370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3927600" y="1268280"/>
            <a:ext cx="231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broth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638160" y="2492280"/>
            <a:ext cx="426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his is my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br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20076231"/>
          <p:cNvPicPr/>
          <p:nvPr/>
        </p:nvPicPr>
        <p:blipFill>
          <a:blip r:embed="rId1"/>
          <a:stretch/>
        </p:blipFill>
        <p:spPr>
          <a:xfrm>
            <a:off x="826920" y="1268280"/>
            <a:ext cx="180360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2:54:16Z</dcterms:created>
  <dc:creator/>
  <dc:description/>
  <dc:language>en-US</dc:language>
  <cp:lastModifiedBy/>
  <dcterms:modified xsi:type="dcterms:W3CDTF">2018-09-16T04:28:5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